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7.wmf" ContentType="image/x-wmf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30.gif" ContentType="image/gif"/>
  <Override PartName="/ppt/media/image33.png" ContentType="image/png"/>
  <Override PartName="/ppt/media/image14.jpeg" ContentType="image/jpeg"/>
  <Override PartName="/ppt/media/image18.gif" ContentType="image/gif"/>
  <Override PartName="/ppt/media/image13.jpeg" ContentType="image/jpeg"/>
  <Override PartName="/ppt/media/image29.wmf" ContentType="image/x-wmf"/>
  <Override PartName="/ppt/media/image31.png" ContentType="image/png"/>
  <Override PartName="/ppt/media/image27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5.wmf" ContentType="image/x-wmf"/>
  <Override PartName="/ppt/media/image15.jpeg" ContentType="image/jpeg"/>
  <Override PartName="/ppt/media/image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1561C-220D-4B77-AC5E-9133A66B7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E01FD-0CCF-455B-8DE4-F6A6705F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63C5-6C73-457A-88BF-E6F77D697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0496-8BC6-4C7D-B0FE-5891F5572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08841-9D1B-475D-B878-08CE862D37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FD9E0-E3E1-4E8E-8849-0A754D971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2C164-2BF3-4A0D-8E9E-DFA8042F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C1D76-5C99-43AC-BD2C-78E26921C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00294-00DC-4AD1-9995-9606244E8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A413A-F952-420B-B615-E85D3FD18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DD164-E06E-46D1-9E26-C59552D9F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2879-0FE3-4BD8-82A2-0118D70E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7A865-9640-42D7-AB3B-74DF83A7D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B27CE-1A92-4802-9F4E-1DB98FEE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8DDE-77AE-4FD0-A71F-8549E52E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48177-E158-43EB-86DB-2E3A57B65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AFFA-F0D7-4975-953F-3FB031C654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6D2F-DD25-4920-8001-28419B65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EE789-AF5F-4368-94AB-7C03B1D66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0F6-1B48-4D85-BE8D-03BC392E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9B17-A67E-4563-8F9C-7BC7743C8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1A47-19FA-49A6-9B35-96A271C4A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BF59E-F43F-425F-8ECE-60DE6A8C6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DBF-6A7C-4C99-A9A7-F27571760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B3CD8-FE3B-4139-983E-BA3627A32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9D78B-E028-46CF-9D41-8D8534537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eroicimages.net/toons/Resources/Images/batman_batman2.jpg&amp;imgrefurl=http://heroicimages.net/toons/batman.html&amp;h=600&amp;w=502&amp;sz=58&amp;tbnid=CFcY8FKSxeAJ:&amp;tbnh=133&amp;tbnw=111&amp;hl=en&amp;start=19&amp;prev=/images%3Fq%3Dbatman%26svnum%3D10%26hl%3Den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-islam.org/gallery/kids/Clipart/drawings/Mob.gif&amp;imgrefurl=http://al-islam.org/gallery/kids/Clipart/drawings/drawings.html&amp;h=671&amp;w=1093&amp;sz=45&amp;tbnid=n1GFLB2X-1kJ:&amp;tbnh=92&amp;tbnw=150&amp;hl=en&amp;start=20&amp;prev=/images%3Fq%3Dmob%26svnum%3D10%26hl%3Den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thepages.org/images/blog/thunderstorm.jpg&amp;imgrefurl=http://www.allthepages.org/archives/cat_general.html&amp;h=147&amp;w=200&amp;sz=10&amp;tbnid=Gt44FFM4MBoJ:&amp;tbnh=72&amp;tbnw=99&amp;hl=en&amp;start=2&amp;prev=/images%3Fq%3Dthunderstorm%26svnum%3D10%26hl%3Den%26lr%3D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puzzlehouse.com/images/webpage/dinosaurs2.jpg&amp;imgrefurl=http://www.puzzlehouse.com/_jigsaws/woodenthumbs1A.htm&amp;h=281&amp;w=400&amp;sz=34&amp;tbnid=AiwcH8GJiOYJ:&amp;tbnh=84&amp;tbnw=120&amp;hl=en&amp;start=1&amp;prev=/images%3Fq%3Ddinosaurs%26svnum%3D10%26hl%3Den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o.ural.ru/movies/alien_vs_predator/poster4.jpg&amp;imgrefurl=http://kino.ural.ru/movies/alien_vs_predator/&amp;h=1200&amp;w=810&amp;sz=256&amp;tbnid=g2WyADjoV9EJ:&amp;tbnh=150&amp;tbnw=101&amp;hl=en&amp;start=5&amp;prev=/images%3Fq%3Dalien%2Bvs%2Bpredator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starstore.com/acatalog/Freddy-Jason-headknocker-set.jpg&amp;imgrefurl=http://www.starstore.com/acatalog/Starstore_Catalogue_BOBBLE_HEADS__WACKY_WOBBLERS__HEAD_KNOCKERS_1777.html&amp;h=588&amp;w=430&amp;sz=98&amp;tbnid=tZNxdyp5v4QJ:&amp;tbnh=132&amp;tbnw=96&amp;hl=en&amp;start=23&amp;prev=/images%3Fq%3Dfreddy%2Bvs%2Bjason%26start%3D20%26svnum%3D10%26hl%3Den%26lr%3D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heaven.com/clipart/entertainment/drama_%26_film/actor_-_villian.gif&amp;imgrefurl=http://www.clipartheaven.com/clipart/entertainment/drama_%26_film/&amp;h=588&amp;w=489&amp;sz=10&amp;tbnid=JpDVA9V2mk4J:&amp;tbnh=132&amp;tbnw=109&amp;hl=en&amp;start=8&amp;prev=/images%3Fq%3Dvillian%26svnum%3D10%26hl%3Den%26lr%3D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oqz76.dsl.pipex.com/Web%2520Page%2520Components/Wallpaper/Movies/Harry%2520Potter.jpg&amp;imgrefurl=http://www.aoqz76.dsl.pipex.com/Movies.htm&amp;h=768&amp;w=1024&amp;sz=180&amp;tbnid=UgMnuRCQ9FEJ:&amp;tbnh=112&amp;tbnw=150&amp;hl=en&amp;start=10&amp;prev=/images%3Fq%3Dharry%2Bpotter%26svnum%3D10%26hl%3Den%26lr%3D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eduresources.net/science/general/images/bsa10-bs.jpg&amp;imgrefurl=http://www.eduresources.net/science/general/bsa10.htm&amp;h=214&amp;w=150&amp;sz=17&amp;tbnid=kd16NemIjt0J:&amp;tbnh=101&amp;tbnw=70&amp;hl=en&amp;start=3&amp;prev=/images%3Fq%3Dscience%2Bbooks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o.com/extra/buddy/images/prosecutor_priest_mob.jpg&amp;imgrefurl=http://www.projo.com/extra/buddy/part_one.htm&amp;h=196&amp;w=350&amp;sz=13&amp;tbnid=V7H8iA4fod8J:&amp;tbnh=64&amp;tbnw=116&amp;hl=en&amp;start=2&amp;prev=/images%3Fq%3Ditalian%2Bmob%26svnum%3D10%26hl%3Den%26lr%3D%26sa%3D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clipartheaven.com/clipart/entertainment/drama_%26_film/actor_-_villian.gif&amp;imgrefurl=http://www.clipartheaven.com/clipart/entertainment/drama_%26_film/&amp;h=588&amp;w=489&amp;sz=10&amp;tbnid=JpDVA9V2mk4J:&amp;tbnh=132&amp;tbnw=109&amp;hl=en&amp;start=8&amp;prev=/images%3Fq%3Dvillian%26svnum%3D10%26hl%3Den%26lr%3D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oqz76.dsl.pipex.com/Web%2520Page%2520Components/Wallpaper/TV/Homer%2520Simpson%2520Oh%2520No.jpg&amp;imgrefurl=http://www.aoqz76.dsl.pipex.com/TV.htm&amp;h=768&amp;w=1024&amp;sz=56&amp;tbnid=H5ZQzTHCwyUJ:&amp;tbnh=112&amp;tbnw=150&amp;hl=en&amp;start=18&amp;prev=/images%3Fq%3Dhomer%26svnum%3D10%26hl%3Den%26lr%3D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deeperblue.net/upload/827313675_spongebob.jpg&amp;imgrefurl=http://www.deeperblue.net/article.php/586/13&amp;h=243&amp;w=300&amp;sz=19&amp;tbnid=42Ce-CLPPI4J:&amp;tbnh=89&amp;tbnw=111&amp;hl=en&amp;start=14&amp;prev=/images%3Fq%3Dspongebob%2Bsquare%2Bpants%26svnum%3D10%26hl%3Den%26lr%3D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ipsideshow.com/images/President%2520Bush%2520Gestures.jpg&amp;imgrefurl=http://www.flipsideshow.com/Master--I-News%2520Fun.htm&amp;h=384&amp;w=266&amp;sz=41&amp;tbnid=paR_xIhtbR0J:&amp;tbnh=119&amp;tbnw=82&amp;hl=en&amp;start=2&amp;prev=/images%3Fq%3Dpresident%2Bbush%26svnum%3D10%26hl%3Den%26lr%3D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sdsmt.edu/friendsvideos/Rocky%2520(front).jpg&amp;imgrefurl=http://library.sdsmt.edu/AV/afi100k_r.htm&amp;h=1483&amp;w=1082&amp;sz=1682&amp;tbnid=x_m1dnGZYLMJ:&amp;tbnh=150&amp;tbnw=109&amp;hl=en&amp;start=4&amp;prev=/images%3Fq%3Drocky%26svnum%3D10%26hl%3Den%26lr%3D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ngravers MT"/>
              </a:rPr>
              <a:t>E l e m e n t s   o 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ngravers MT"/>
              </a:rPr>
              <a:t>L I t e r a t u r 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609552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s. Mar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Sel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do with my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d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atman_batm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3526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Soci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believe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afte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s agains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362320" y="41148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M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733920"/>
            <a:ext cx="624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Na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is fighting against n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After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assic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hundersto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286000"/>
            <a:ext cx="3081240" cy="224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inosaurs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91120"/>
            <a:ext cx="323532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F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upposed to happe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eant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chosen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mare on Elm Str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ie and the Chocolate Fac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138993[1]"/>
          <p:cNvPicPr/>
          <p:nvPr/>
        </p:nvPicPr>
        <p:blipFill>
          <a:blip r:embed="rId1"/>
          <a:stretch/>
        </p:blipFill>
        <p:spPr>
          <a:xfrm>
            <a:off x="6629400" y="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M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(hero) and the antagonist (villian)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fight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 vs. Pre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dy vs. J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ster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276720"/>
            <a:ext cx="2438640" cy="32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Freddy-Jason-headknocker-s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581280"/>
            <a:ext cx="2252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conflicts even h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one tornado there are f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 is in New York and the son is in Washington which is where the world’s biggest earthquake is about to occur in 1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and one month old is missing in a snowstorm (one moth old child as opposed to a five year 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ole world is against you and so is your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781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Types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-Ty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4290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How a character beh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agonist vs. Antagoni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character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hero/good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es or is against the pro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villain/bad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actor_-_vill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2174760" cy="23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action-challenge-he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340160"/>
            <a:ext cx="2193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vs. Stat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changes/learns/ or grows as a person throughout the plot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DOES NOT change/learn/ or grow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stays the same throughout the plot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nd vs. Fl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is fu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A LOT about thi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the readers no pretty much NOTHING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we only know one or two thing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dd01775_[1]"/>
          <p:cNvPicPr/>
          <p:nvPr/>
        </p:nvPicPr>
        <p:blipFill>
          <a:blip r:embed="rId1"/>
          <a:stretch/>
        </p:blipFill>
        <p:spPr>
          <a:xfrm>
            <a:off x="2438280" y="434340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7238880" y="5257800"/>
            <a:ext cx="1041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 Types of Litera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in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7560" indent="-150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429000" y="4038480"/>
            <a:ext cx="4572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s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arry%2520Pot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8200" y="1828800"/>
            <a:ext cx="302580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bsa10-b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4075200"/>
            <a:ext cx="1928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reo-Typ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914040"/>
            <a:ext cx="67816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general perception of a person based on the society's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wrong and it is meant to be humorous or off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Italians are in the m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blondes are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Hindus own dough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rosecutor_priest_m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4967280"/>
            <a:ext cx="3427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allel vs. Fo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characters who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personalities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3760" y="9144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characters who are different/ 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completely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the protagonist and the antag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action-challenge-h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ction-challenge-he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action-challenge-her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9952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ctor_-_villi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5165640"/>
            <a:ext cx="1581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i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5120" y="990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racter’s f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Homer’s flaw is that he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Sponge Bob Square Pants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w is that he is naïve/clu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Homer%2520Simpson%2520Oh%2520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09680"/>
            <a:ext cx="1919520" cy="14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827313675_spongebo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800600"/>
            <a:ext cx="20844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 of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57400" y="28195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Narrative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Limited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Omniscient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71800" y="1371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How the story is told to the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Narrative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story is told to you (the reader) by a person in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s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blems with this 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people 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story will change depending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ime since the story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only know what they cho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ll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President%2520Bush%2520Ges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338720"/>
            <a:ext cx="1737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Limited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e watch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generally focuses on one main character (the protago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now everything about ONE chara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Rocky%2520(front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1840" y="3511440"/>
            <a:ext cx="24321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Omniscient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now everything about ALL the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focuses on more than on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The%2520Lord%2520Of%2520The%2520Rings%2520The%2520Two%2520Towers"/>
          <p:cNvPicPr/>
          <p:nvPr/>
        </p:nvPicPr>
        <p:blipFill>
          <a:blip r:embed="rId1"/>
          <a:stretch/>
        </p:blipFill>
        <p:spPr>
          <a:xfrm>
            <a:off x="4495680" y="3276720"/>
            <a:ext cx="2505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ot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00200" y="2666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124080" y="10666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the events are ti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verything happens for a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verything leads to the next development in th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os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in characters are int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tting is d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osition is over when the inciting incident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j0411464[1]"/>
          <p:cNvPicPr/>
          <p:nvPr/>
        </p:nvPicPr>
        <p:blipFill>
          <a:blip r:embed="rId1"/>
          <a:stretch/>
        </p:blipFill>
        <p:spPr>
          <a:xfrm>
            <a:off x="1828800" y="4191120"/>
            <a:ext cx="1844640" cy="20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11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iting Incid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rst action of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egins the plot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the first expl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someone is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explosion"/>
          <p:cNvPicPr/>
          <p:nvPr/>
        </p:nvPicPr>
        <p:blipFill>
          <a:blip r:embed="rId1"/>
          <a:stretch/>
        </p:blipFill>
        <p:spPr>
          <a:xfrm>
            <a:off x="5486400" y="3962520"/>
            <a:ext cx="26416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’s your favorite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enr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800" y="3017520"/>
            <a:ext cx="6781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219320"/>
            <a:ext cx="4952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system that  groups similar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elevision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ising 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ries of actions that move up to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ons BEFORE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j0361328[1]"/>
          <p:cNvPicPr/>
          <p:nvPr/>
        </p:nvPicPr>
        <p:blipFill>
          <a:blip r:embed="rId1"/>
          <a:stretch/>
        </p:blipFill>
        <p:spPr>
          <a:xfrm>
            <a:off x="3200400" y="342900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turning point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things change o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haracter ha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piph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 ah-h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 (finally realiz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I still lo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Protagonist 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t usually f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j0232446[1]"/>
          <p:cNvPicPr/>
          <p:nvPr/>
        </p:nvPicPr>
        <p:blipFill>
          <a:blip r:embed="rId1"/>
          <a:stretch/>
        </p:blipFill>
        <p:spPr>
          <a:xfrm>
            <a:off x="1752480" y="4952880"/>
            <a:ext cx="1930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lling 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ries of actions that move down to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ons AFTER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j0361328[1]"/>
          <p:cNvPicPr/>
          <p:nvPr/>
        </p:nvPicPr>
        <p:blipFill>
          <a:blip r:embed="rId1"/>
          <a:stretch/>
        </p:blipFill>
        <p:spPr>
          <a:xfrm>
            <a:off x="3124080" y="342900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flicts are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verything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utcome i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end of the plot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276720" y="3930480"/>
            <a:ext cx="40860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1240" y="304560"/>
            <a:ext cx="845820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://web.cocc.edu/lisal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teraryterms/index.htm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81680" cy="5029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406374[1]"/>
          <p:cNvPicPr/>
          <p:nvPr/>
        </p:nvPicPr>
        <p:blipFill>
          <a:blip r:embed="rId2"/>
          <a:stretch/>
        </p:blipFill>
        <p:spPr>
          <a:xfrm>
            <a:off x="7121520" y="0"/>
            <a:ext cx="202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6960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://www.rscc.cc.tn.us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wl&amp;writingcenter/OWL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Lit.htm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781680" cy="4952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406374[1]"/>
          <p:cNvPicPr/>
          <p:nvPr/>
        </p:nvPicPr>
        <p:blipFill>
          <a:blip r:embed="rId2"/>
          <a:stretch/>
        </p:blipFill>
        <p:spPr>
          <a:xfrm>
            <a:off x="7121520" y="0"/>
            <a:ext cx="202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e Creat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 e t t i n 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ed to create a place of time in the reader'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day of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91320" y="2666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0212043[1]"/>
          <p:cNvPicPr/>
          <p:nvPr/>
        </p:nvPicPr>
        <p:blipFill>
          <a:blip r:embed="rId1"/>
          <a:stretch/>
        </p:blipFill>
        <p:spPr>
          <a:xfrm>
            <a:off x="5791320" y="3048120"/>
            <a:ext cx="2346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 r o t a g o n i s 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will present a main character who takes part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revolves/focuses on this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is the good guy/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379579[1]"/>
          <p:cNvPicPr/>
          <p:nvPr/>
        </p:nvPicPr>
        <p:blipFill>
          <a:blip r:embed="rId1"/>
          <a:stretch/>
        </p:blipFill>
        <p:spPr>
          <a:xfrm>
            <a:off x="3048120" y="4592520"/>
            <a:ext cx="28098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 l o 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is happening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136665[1]"/>
          <p:cNvPicPr/>
          <p:nvPr/>
        </p:nvPicPr>
        <p:blipFill>
          <a:blip r:embed="rId1"/>
          <a:stretch/>
        </p:blipFill>
        <p:spPr>
          <a:xfrm>
            <a:off x="3124080" y="3657600"/>
            <a:ext cx="2691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a message ab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are supposed to learn from the st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is real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, death, friend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e,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 h e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Six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C o n f l i c t 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an vs.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an vs.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an vs.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man vs.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man vs.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Man vs.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5:06:43Z</dcterms:created>
  <dc:creator>ASD</dc:creator>
  <dc:description/>
  <cp:keywords/>
  <dc:language>en-US</dc:language>
  <cp:lastModifiedBy>Teacher</cp:lastModifiedBy>
  <dcterms:modified xsi:type="dcterms:W3CDTF">2010-06-15T14:00:41Z</dcterms:modified>
  <cp:revision>20</cp:revision>
  <dc:subject/>
  <dc:title>E l e m e n t s   o f  L I t e r a t u r 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